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39EC-1793-4E75-A938-2D0F4FDA1E6B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B880F-E914-419B-A4C6-43C312DB983B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aprendizaje de las declinaciones se vincula con el uso de los cas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089B-70AE-4867-9EE4-D50DA93A6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16EC-B4EC-42F4-85AA-C0F624891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9294-EE97-4BC8-A5DD-3353BDD4E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9D71-8C81-4C73-804A-35AF8E914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DF95A-1917-4404-9220-F160EFE7B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CD3E0-7E4E-4CCF-800D-FBAF887E2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383A2-9A6A-4BDD-87C6-154F050C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808CB-74B6-48D6-BDF0-8A50BC0FD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437A-997F-4674-9763-B3B79376D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96E82-D48E-4121-91A8-72961BABA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757BB-CFA9-4BD5-B571-B3D4CB53F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C6999-E541-44C5-AB2C-F975B2A9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E3549-8163-4B97-8B49-F8D731AF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6040-5DAF-4686-91AA-E154FAB36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58203-3796-4DFA-AEED-FA5EA8549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2B5B-7BCB-4008-9658-649B89FB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3AA3-8E42-4D4D-84BD-5CFB05ABD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81495-86F2-442C-9208-554F6FF7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03A1E-FC25-42D4-A9ED-8CCA84AA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217A-7F94-444E-B135-317326281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BEA1D-ADC9-4371-BBB3-0DE772DD6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D1D9-0EC5-4603-BC8A-2580D033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F881-66B9-4C82-9D3A-8DE13B96B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532D4-9D72-4C47-94EA-9570C006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3.xml"/><Relationship Id="rId35" Type="http://schemas.openxmlformats.org/officeDocument/2006/relationships/slideLayout" Target="../slideLayouts/slideLayout14.xml"/><Relationship Id="rId36" Type="http://schemas.openxmlformats.org/officeDocument/2006/relationships/slideLayout" Target="../slideLayouts/slideLayout15.xml"/><Relationship Id="rId37" Type="http://schemas.openxmlformats.org/officeDocument/2006/relationships/slideLayout" Target="../slideLayouts/slideLayout16.xml"/><Relationship Id="rId38" Type="http://schemas.openxmlformats.org/officeDocument/2006/relationships/slideLayout" Target="../slideLayouts/slideLayout17.xml"/><Relationship Id="rId39" Type="http://schemas.openxmlformats.org/officeDocument/2006/relationships/slideLayout" Target="../slideLayouts/slideLayout18.xml"/><Relationship Id="rId40" Type="http://schemas.openxmlformats.org/officeDocument/2006/relationships/slideLayout" Target="../slideLayouts/slideLayout19.xml"/><Relationship Id="rId41" Type="http://schemas.openxmlformats.org/officeDocument/2006/relationships/slideLayout" Target="../slideLayouts/slideLayout20.xml"/><Relationship Id="rId42" Type="http://schemas.openxmlformats.org/officeDocument/2006/relationships/slideLayout" Target="../slideLayouts/slideLayout21.xml"/><Relationship Id="rId43" Type="http://schemas.openxmlformats.org/officeDocument/2006/relationships/slideLayout" Target="../slideLayouts/slideLayout22.xml"/><Relationship Id="rId44" Type="http://schemas.openxmlformats.org/officeDocument/2006/relationships/slideLayout" Target="../slideLayouts/slideLayout23.xml"/><Relationship Id="rId4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grpSp>
          <p:nvGrpSpPr>
            <p:cNvPr id="4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7d4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7d47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45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46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47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48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49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50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51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53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54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D9AA-E0D6-4D82-9924-EB3DEA1C305F}" type="slidenum">
              <a:rPr b="0" lang="es-E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Rectangle 3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99" name="Rectangle 5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49b6d"/>
                </a:gs>
                <a:gs pos="50000">
                  <a:srgbClr val="d5b781"/>
                </a:gs>
                <a:gs pos="100000">
                  <a:srgbClr val="b49b6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grpSp>
          <p:nvGrpSpPr>
            <p:cNvPr id="100" name="Group 6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Group 7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Group 8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Group 9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Freeform 10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7d47d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Freeform 11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prstGeom prst="pie">
                      <a:avLst/>
                    </a:pr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4000" spc="-1" strike="noStrike">
                        <a:solidFill>
                          <a:srgbClr val="f7d47d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Oval 12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Freeform 13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0440" bIns="1044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Freeform 14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9360" bIns="-936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Freeform 15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14400" bIns="144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Freeform 16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9080" bIns="-190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Freeform 17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prstGeom prst="pi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680" bIns="-468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4000" spc="-1" strike="noStrike">
                      <a:solidFill>
                        <a:srgbClr val="f7d47d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Picture 1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Picture 19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Picture 20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Picture 21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Picture 22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Picture 23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Picture 2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Picture 25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Group 26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Picture 27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Picture 28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Picture 29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Picture 30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Picture 31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Picture 32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Picture 33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Picture 34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Picture 35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Picture 36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Picture 37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Picture 38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Picture 39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Picture 40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Picture 41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Picture 42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Picture 43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Picture 44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Picture 45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Freeform 46"/>
            <p:cNvSpPr/>
            <p:nvPr/>
          </p:nvSpPr>
          <p:spPr>
            <a:xfrm>
              <a:off x="7953480" y="4908600"/>
              <a:ext cx="1190520" cy="194004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1" name="Freeform 47"/>
            <p:cNvSpPr/>
            <p:nvPr/>
          </p:nvSpPr>
          <p:spPr>
            <a:xfrm>
              <a:off x="7939080" y="4857840"/>
              <a:ext cx="1219320" cy="200016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2" name="Freeform 48"/>
            <p:cNvSpPr/>
            <p:nvPr/>
          </p:nvSpPr>
          <p:spPr>
            <a:xfrm>
              <a:off x="7927920" y="2817720"/>
              <a:ext cx="1231920" cy="4037040"/>
            </a:xfrm>
            <a:prstGeom prst="pie">
              <a:avLst/>
            </a:prstGeom>
            <a:gradFill rotWithShape="0">
              <a:gsLst>
                <a:gs pos="0">
                  <a:srgbClr val="38513a"/>
                </a:gs>
                <a:gs pos="50000">
                  <a:srgbClr val="79af7d"/>
                </a:gs>
                <a:gs pos="100000">
                  <a:srgbClr val="38513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3" name="Freeform 49"/>
            <p:cNvSpPr/>
            <p:nvPr/>
          </p:nvSpPr>
          <p:spPr>
            <a:xfrm>
              <a:off x="8010360" y="3538440"/>
              <a:ext cx="979560" cy="2184480"/>
            </a:xfrm>
            <a:prstGeom prst="pie">
              <a:avLst/>
            </a:pr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4" name="Freeform 50"/>
            <p:cNvSpPr/>
            <p:nvPr/>
          </p:nvSpPr>
          <p:spPr>
            <a:xfrm>
              <a:off x="8244000" y="426960"/>
              <a:ext cx="914400" cy="5048280"/>
            </a:xfrm>
            <a:prstGeom prst="pie">
              <a:avLst/>
            </a:pr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5" name="Freeform 51"/>
            <p:cNvSpPr/>
            <p:nvPr/>
          </p:nvSpPr>
          <p:spPr>
            <a:xfrm>
              <a:off x="8250120" y="262080"/>
              <a:ext cx="909720" cy="307152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6" name="Freeform 52"/>
            <p:cNvSpPr/>
            <p:nvPr/>
          </p:nvSpPr>
          <p:spPr>
            <a:xfrm>
              <a:off x="7943760" y="0"/>
              <a:ext cx="576360" cy="3352680"/>
            </a:xfrm>
            <a:prstGeom prst="pie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7" name="Freeform 53"/>
            <p:cNvSpPr/>
            <p:nvPr/>
          </p:nvSpPr>
          <p:spPr>
            <a:xfrm>
              <a:off x="7943760" y="1440"/>
              <a:ext cx="300240" cy="3353040"/>
            </a:xfrm>
            <a:prstGeom prst="pie">
              <a:avLst/>
            </a:pr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8" name="Rectangle 54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49" name="Freeform 55"/>
            <p:cNvSpPr/>
            <p:nvPr/>
          </p:nvSpPr>
          <p:spPr>
            <a:xfrm>
              <a:off x="7958160" y="6229440"/>
              <a:ext cx="1165320" cy="61920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  <p:sp>
          <p:nvSpPr>
            <p:cNvPr id="150" name="AutoShape 56"/>
            <p:cNvSpPr/>
            <p:nvPr/>
          </p:nvSpPr>
          <p:spPr>
            <a:xfrm rot="5400000">
              <a:off x="4323960" y="3316320"/>
              <a:ext cx="6858000" cy="225360"/>
            </a:xfrm>
            <a:prstGeom prst="pie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f7d47d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AA771-55EF-4234-9E30-A53934E6E36C}" type="slidenum">
              <a:rPr b="0" lang="es-ES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4"/>
    <p:sldLayoutId id="2147483663" r:id="rId35"/>
    <p:sldLayoutId id="2147483664" r:id="rId36"/>
    <p:sldLayoutId id="2147483665" r:id="rId37"/>
    <p:sldLayoutId id="2147483666" r:id="rId38"/>
    <p:sldLayoutId id="2147483667" r:id="rId39"/>
    <p:sldLayoutId id="2147483668" r:id="rId40"/>
    <p:sldLayoutId id="2147483669" r:id="rId41"/>
    <p:sldLayoutId id="2147483670" r:id="rId42"/>
    <p:sldLayoutId id="2147483671" r:id="rId43"/>
    <p:sldLayoutId id="2147483672" r:id="rId44"/>
    <p:sldLayoutId id="2147483673" r:id="rId4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Primera declin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f1311"/>
                </a:solidFill>
                <a:latin typeface="Arial"/>
              </a:rPr>
              <a:t>Se usa para sustantivos femeninos y masculinos y para adjetivos femenino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7d47d"/>
                </a:solidFill>
                <a:latin typeface="Arial"/>
              </a:rPr>
              <a:t>Enunciado: nominativo singular-genitivo singular  .Ej. amicitia-ae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152280" y="2514600"/>
            <a:ext cx="3616560" cy="224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af7d"/>
                </a:solidFill>
                <a:latin typeface="Arial"/>
              </a:rPr>
              <a:t>Sing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Nom. -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Voc. -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Acus. -am.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Genitivo.-a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Dat. -a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43360" indent="-2433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Abl. -a 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86200" y="2590920"/>
            <a:ext cx="3618000" cy="217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79af7d"/>
                </a:solidFill>
                <a:latin typeface="Arial"/>
              </a:rPr>
              <a:t>Plur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Nom. –a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Voc. –a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Ac. -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Gen. -arum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Dat. -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2f1311"/>
                </a:solidFill>
                <a:latin typeface="Arial"/>
              </a:rPr>
              <a:t>Abl. -i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236520" indent="-236520"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Insula - ae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af7d"/>
                </a:solidFill>
                <a:latin typeface="Arial"/>
              </a:rPr>
              <a:t>SING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N. insul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V. insul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c. insula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G. insul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. insul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bl. insul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af7d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N. insul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V. insul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c. insul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G. insularu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. insul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bl. insul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7d47d"/>
                </a:solidFill>
                <a:latin typeface="Arial"/>
              </a:rPr>
              <a:t>Adjetivo  bon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63160" y="1598760"/>
            <a:ext cx="361620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af7d"/>
                </a:solidFill>
                <a:latin typeface="Arial"/>
              </a:rPr>
              <a:t>SING.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N. bo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V. bo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c. bona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Gen. bon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at. bon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bl. bo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032000" y="1598760"/>
            <a:ext cx="36176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79af7d"/>
                </a:solidFill>
                <a:latin typeface="Arial"/>
              </a:rPr>
              <a:t>PLUR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N. bon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V. bona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c. bon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Gen. bonaru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Dat. bon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2f1311"/>
                </a:solidFill>
                <a:latin typeface="Arial"/>
              </a:rPr>
              <a:t>Abl. boni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14:30:02Z</dcterms:created>
  <dc:creator>E.M.O</dc:creator>
  <dc:description/>
  <dc:language>en-US</dc:language>
  <cp:lastModifiedBy>AUDIOLEASK</cp:lastModifiedBy>
  <dcterms:modified xsi:type="dcterms:W3CDTF">2012-12-16T16:00:12Z</dcterms:modified>
  <cp:revision>7</cp:revision>
  <dc:subject/>
  <dc:title>Primera declinación</dc:title>
</cp:coreProperties>
</file>